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7.jpeg" ContentType="image/jpeg"/>
  <Override PartName="/ppt/media/image16.wmf" ContentType="image/x-wmf"/>
  <Override PartName="/ppt/media/image23.jpeg" ContentType="image/jpeg"/>
  <Override PartName="/ppt/media/image1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26.jpeg" ContentType="image/jpeg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4FCD-2A32-490F-8D23-C50AF632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CB0D-571F-4A2E-84DE-4A279E63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6C27-9D9E-4BEC-863F-2F383D4B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FC3A-145B-4F40-81FE-8CF749E1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67FB-1A91-4478-8355-8BBABB15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4918-5207-478A-95A9-2F589CD9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C930-9C44-4A55-90F7-0629F557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36BF-619B-4477-8D89-B6ACABE0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B82C-AE24-4B63-914B-F1BEC601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706F-6CA5-425D-8026-ABC0C4B7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8608-B2CF-4B4D-97DF-7DB0EC53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20C3-C887-45BC-8C4D-2E228BBC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BA95-BAEF-41AA-AF83-4AE2201F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E3FD-36ED-460B-9E16-3EB1D9BA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D352-810E-4E5A-85F1-FA1E2DE0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8C0E-AA76-4470-8562-57DCF054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4F31-5B41-4BE6-A1E5-806B5799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F01D1-3196-487A-8017-D5FA72EB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8FCFA-5F1E-4AAB-9002-D1B049AA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B44A7-4F87-453C-9834-D81716F7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35690-6372-47E0-97F2-10D9E1A3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3D415-6580-4EC0-9469-7AC577A1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D9E64-0767-4212-B5AD-75463485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6002A-3466-4427-9A2F-5C63BE32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3590-C6BB-4F55-9400-464E382777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CE7B-BC8C-4AD2-AD66-F08B8CD673C2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AC42-7F70-41FE-90E4-C0D34DAEE860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5367-BBAB-4D6F-9F50-BB261ED587A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E0C7C-8E32-4FE3-A3A4-DC99E9C443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8677440" y="981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123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«Человек подобен дроби: в знаменателе – то, что он о себе думает. В числителе – то, что есть на самом дел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Documents and Settings\All Users\Документы\Мои рисунки\Образцы рисунков\WP6CAOETMLGCAJS66PICAFBVECJCAC3E2LVCAC3MBDYCAHKG0SRCALYZIL5CAJLOHK9CA3F9IM8CAYJZC6MCAM1SU86CA6X75BICAPMCXGWCA31NQV5CAL51XEZCAM3FFV4CA2Q1E1HCAQLHT5PCATXE11U.jpg"/>
          <p:cNvPicPr/>
          <p:nvPr/>
        </p:nvPicPr>
        <p:blipFill>
          <a:blip r:embed="rId1"/>
          <a:stretch/>
        </p:blipFill>
        <p:spPr>
          <a:xfrm>
            <a:off x="6827760" y="46656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3"/>
          <p:cNvSpPr/>
          <p:nvPr/>
        </p:nvSpPr>
        <p:spPr>
          <a:xfrm>
            <a:off x="5867280" y="3021120"/>
            <a:ext cx="28544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Лев Толс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2"/>
          <a:stretch/>
        </p:blipFill>
        <p:spPr>
          <a:xfrm>
            <a:off x="549360" y="2371680"/>
            <a:ext cx="362592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83DF-FDBF-4706-AED7-83DD70637F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2"/>
          <p:cNvSpPr/>
          <p:nvPr/>
        </p:nvSpPr>
        <p:spPr>
          <a:xfrm>
            <a:off x="8677440" y="981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5120" y="20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Физкультмину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C:\Documents and Settings\All Users\Документы\Мои рисунки\Образцы рисунков\WP6CAOETMLGCAJS66PICAFBVECJCAC3E2LVCAC3MBDYCAHKG0SRCALYZIL5CAJLOHK9CA3F9IM8CAYJZC6MCAM1SU86CA6X75BICAPMCXGWCA31NQV5CAL51XEZCAM3FFV4CA2Q1E1HCAQLHT5PCATXE11U.jpg"/>
          <p:cNvPicPr/>
          <p:nvPr/>
        </p:nvPicPr>
        <p:blipFill>
          <a:blip r:embed="rId1"/>
          <a:stretch/>
        </p:blipFill>
        <p:spPr>
          <a:xfrm>
            <a:off x="6827760" y="46656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2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Выполните задание, получите слово- имя известного математика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TextBox 5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7825-0250-4731-8AB6-E4EC7B8FEF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2"/>
          <p:cNvSpPr/>
          <p:nvPr/>
        </p:nvSpPr>
        <p:spPr>
          <a:xfrm>
            <a:off x="8677440" y="981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6760" y="47772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«У математиков существует свой язык – это формул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6" descr=""/>
          <p:cNvPicPr/>
          <p:nvPr/>
        </p:nvPicPr>
        <p:blipFill>
          <a:blip r:embed="rId1"/>
          <a:stretch/>
        </p:blipFill>
        <p:spPr>
          <a:xfrm>
            <a:off x="266760" y="1879560"/>
            <a:ext cx="3205080" cy="39322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3"/>
          <p:cNvSpPr/>
          <p:nvPr/>
        </p:nvSpPr>
        <p:spPr>
          <a:xfrm>
            <a:off x="3351240" y="2147760"/>
            <a:ext cx="539892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Софья Васильевна Ковалевская (1850-189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Русский математик и механик, писатель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Первая в России и Северной Европе женщина профессор – математик. Член Санкт-Петербургской Академии на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Основные научные труды посвящены математическому анализу, механике и астрономи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7640" y="-262080"/>
            <a:ext cx="82296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Calibri"/>
                <a:ea typeface="Times New Roman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Текст 2" descr=""/>
          <p:cNvPicPr/>
          <p:nvPr/>
        </p:nvPicPr>
        <p:blipFill>
          <a:blip r:embed="rId1"/>
          <a:stretch/>
        </p:blipFill>
        <p:spPr>
          <a:xfrm>
            <a:off x="743040" y="712800"/>
            <a:ext cx="4041720" cy="6145200"/>
          </a:xfrm>
          <a:prstGeom prst="rect">
            <a:avLst/>
          </a:prstGeom>
          <a:ln w="0">
            <a:noFill/>
          </a:ln>
        </p:spPr>
      </p:pic>
      <p:pic>
        <p:nvPicPr>
          <p:cNvPr id="181" name="Текст 2" descr=""/>
          <p:cNvPicPr/>
          <p:nvPr/>
        </p:nvPicPr>
        <p:blipFill>
          <a:blip r:embed="rId2"/>
          <a:stretch/>
        </p:blipFill>
        <p:spPr>
          <a:xfrm>
            <a:off x="4572000" y="712800"/>
            <a:ext cx="396252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№</a:t>
            </a:r>
            <a:r>
              <a:rPr b="1" lang="en-US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81</a:t>
            </a: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, 82, с.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Рисунок 12" descr=""/>
          <p:cNvPicPr/>
          <p:nvPr/>
        </p:nvPicPr>
        <p:blipFill>
          <a:blip r:embed="rId1"/>
          <a:stretch/>
        </p:blipFill>
        <p:spPr>
          <a:xfrm>
            <a:off x="31680" y="190440"/>
            <a:ext cx="9144000" cy="6667560"/>
          </a:xfrm>
          <a:prstGeom prst="rect">
            <a:avLst/>
          </a:prstGeom>
          <a:ln w="0">
            <a:noFill/>
          </a:ln>
        </p:spPr>
      </p:pic>
      <p:sp>
        <p:nvSpPr>
          <p:cNvPr id="185" name="Содержимое 2"/>
          <p:cNvSpPr/>
          <p:nvPr/>
        </p:nvSpPr>
        <p:spPr>
          <a:xfrm>
            <a:off x="1068480" y="198900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На уроке м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было тру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одержимое 2"/>
          <p:cNvSpPr/>
          <p:nvPr/>
        </p:nvSpPr>
        <p:spPr>
          <a:xfrm>
            <a:off x="3382920" y="2127240"/>
            <a:ext cx="2962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На уроке 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работал</a:t>
            </a:r>
            <a:r>
              <a:rPr b="1" lang="en-US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непло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одержимое 2"/>
          <p:cNvSpPr/>
          <p:nvPr/>
        </p:nvSpPr>
        <p:spPr>
          <a:xfrm>
            <a:off x="6076800" y="2003400"/>
            <a:ext cx="3302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Я доволен сво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работой на уро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10920" y="1341360"/>
            <a:ext cx="81010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Масса витамина С, ежедневно необходимая человеку, относится к массе витамина Е, как 4:1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Какова суточная норма в витамине Е, если  витамина С   мы в день должны употреблять 60 мг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http://glamius.ru/uploads/11-12-2015/vitamin-c.jpg"/>
          <p:cNvPicPr/>
          <p:nvPr/>
        </p:nvPicPr>
        <p:blipFill>
          <a:blip r:embed="rId1"/>
          <a:stretch/>
        </p:blipFill>
        <p:spPr>
          <a:xfrm>
            <a:off x="5148360" y="3284640"/>
            <a:ext cx="31590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485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Ответ:15 м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http://glamius.ru/uploads/11-12-2015/vitamin-c.jpg"/>
          <p:cNvPicPr/>
          <p:nvPr/>
        </p:nvPicPr>
        <p:blipFill>
          <a:blip r:embed="rId1"/>
          <a:stretch/>
        </p:blipFill>
        <p:spPr>
          <a:xfrm>
            <a:off x="3995640" y="1341360"/>
            <a:ext cx="488808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260280" y="1773360"/>
            <a:ext cx="8623440" cy="2288520"/>
          </a:xfrm>
          <a:prstGeom prst="rect">
            <a:avLst/>
          </a:prstGeom>
          <a:gradFill rotWithShape="0">
            <a:gsLst>
              <a:gs pos="0">
                <a:srgbClr val="c5c5db"/>
              </a:gs>
              <a:gs pos="100000">
                <a:srgbClr val="aeaecf"/>
              </a:gs>
            </a:gsLst>
            <a:lin ang="5400000"/>
          </a:gradFill>
          <a:ln w="6480">
            <a:solidFill>
              <a:srgbClr val="8a8a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Совершенствование умений складывать и вычитать алгебраические дроби с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 разными знаменател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Прямоугольник 5" descr=""/>
          <p:cNvPicPr/>
          <p:nvPr/>
        </p:nvPicPr>
        <p:blipFill>
          <a:blip r:embed="rId1"/>
          <a:stretch/>
        </p:blipFill>
        <p:spPr>
          <a:xfrm>
            <a:off x="3371760" y="573120"/>
            <a:ext cx="2187720" cy="950760"/>
          </a:xfrm>
          <a:prstGeom prst="rect">
            <a:avLst/>
          </a:prstGeom>
          <a:ln w="0">
            <a:noFill/>
          </a:ln>
        </p:spPr>
      </p:pic>
      <p:sp>
        <p:nvSpPr>
          <p:cNvPr id="114" name="Номер слайда 7"/>
          <p:cNvSpPr/>
          <p:nvPr/>
        </p:nvSpPr>
        <p:spPr>
          <a:xfrm>
            <a:off x="658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6979-76F6-4CE8-990D-DB78481516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C:\Documents and Settings\All Users\Документы\Мои рисунки\Образцы рисунков\WP6CAOETMLGCAJS66PICAFBVECJCAC3E2LVCAC3MBDYCAHKG0SRCALYZIL5CAJLOHK9CA3F9IM8CAYJZC6MCAM1SU86CA6X75BICAPMCXGWCA31NQV5CAL51XEZCAM3FFV4CA2Q1E1HCAQLHT5PCATXE11U.jpg"/>
          <p:cNvPicPr/>
          <p:nvPr/>
        </p:nvPicPr>
        <p:blipFill>
          <a:blip r:embed="rId2"/>
          <a:stretch/>
        </p:blipFill>
        <p:spPr>
          <a:xfrm>
            <a:off x="7236000" y="189000"/>
            <a:ext cx="1584000" cy="158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C:\Documents and Settings\All Users\Документы\Мои рисунки\Образцы рисунков\3LCCAL3VWXVCAR01R14CAJKKEKDCA9G7WIFCA9G0LL8CAHXM5S7CAJ4CQ01CAATPEOJCALZBEMYCAB90X5HCA9SGP0JCA3J21JGCA2JOKWVCASJTJ29CAKEGE54CATC0ZUACAR0HD83CAU4RQXFCA3F8E4S.jpg"/>
          <p:cNvPicPr/>
          <p:nvPr/>
        </p:nvPicPr>
        <p:blipFill>
          <a:blip r:embed="rId3"/>
          <a:stretch/>
        </p:blipFill>
        <p:spPr>
          <a:xfrm>
            <a:off x="900000" y="5157720"/>
            <a:ext cx="21607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Прямоугольник 3" descr=""/>
          <p:cNvPicPr/>
          <p:nvPr/>
        </p:nvPicPr>
        <p:blipFill>
          <a:blip r:embed="rId1"/>
          <a:stretch/>
        </p:blipFill>
        <p:spPr>
          <a:xfrm>
            <a:off x="-73080" y="566640"/>
            <a:ext cx="929016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49120" y="620640"/>
            <a:ext cx="8645760" cy="47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2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Алгоритм сложения и вычитания алгебраических дробей с разными знаменателя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2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1. Найти наименьший общий знаменатель др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2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2. Найти дополнительные множители для каждой из др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2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3. Домножить числители на соответствующие дополнительные множ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528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Calibri"/>
                <a:ea typeface="Times New Roman"/>
              </a:rPr>
              <a:t>4. Сложить или вычесть дроби, пользуясь правилами сложения и вычитания дробей с одинаковыми знаменателя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214280" y="2924280"/>
            <a:ext cx="3132360" cy="2152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4356000" y="2924280"/>
            <a:ext cx="2960640" cy="21398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2013120" y="3413160"/>
          <a:ext cx="362556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3120" y="3413160"/>
                    <a:ext cx="362556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5"/>
          <p:cNvGraphicFramePr/>
          <p:nvPr/>
        </p:nvGraphicFramePr>
        <p:xfrm>
          <a:off x="1514520" y="3465360"/>
          <a:ext cx="4233960" cy="10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4520" y="3465360"/>
                    <a:ext cx="423396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2387520" y="3492360"/>
          <a:ext cx="3592440" cy="103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87520" y="3492360"/>
                    <a:ext cx="35924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олните дейст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8"/>
          <p:cNvGraphicFramePr/>
          <p:nvPr/>
        </p:nvGraphicFramePr>
        <p:xfrm>
          <a:off x="2532240" y="3427560"/>
          <a:ext cx="3682800" cy="112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32240" y="3427560"/>
                    <a:ext cx="3682800" cy="11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9"/>
          <p:cNvGraphicFramePr/>
          <p:nvPr/>
        </p:nvGraphicFramePr>
        <p:xfrm>
          <a:off x="2593800" y="3395520"/>
          <a:ext cx="3370320" cy="114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3800" y="3395520"/>
                    <a:ext cx="33703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10"/>
          <p:cNvSpPr/>
          <p:nvPr/>
        </p:nvSpPr>
        <p:spPr>
          <a:xfrm>
            <a:off x="4503600" y="3116160"/>
            <a:ext cx="2616480" cy="1733760"/>
          </a:xfrm>
          <a:prstGeom prst="rect">
            <a:avLst/>
          </a:prstGeom>
          <a:solidFill>
            <a:srgbClr val="9999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Прави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14280" y="2924280"/>
            <a:ext cx="3132360" cy="2152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4356000" y="2924280"/>
            <a:ext cx="2960640" cy="21398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938240" y="3413160"/>
          <a:ext cx="377352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8240" y="3413160"/>
                    <a:ext cx="37735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5"/>
          <p:cNvGraphicFramePr/>
          <p:nvPr/>
        </p:nvGraphicFramePr>
        <p:xfrm>
          <a:off x="1609560" y="3441600"/>
          <a:ext cx="4391280" cy="10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9560" y="3441600"/>
                    <a:ext cx="4391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6"/>
          <p:cNvGraphicFramePr/>
          <p:nvPr/>
        </p:nvGraphicFramePr>
        <p:xfrm>
          <a:off x="2523960" y="3490920"/>
          <a:ext cx="3424320" cy="103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3960" y="3490920"/>
                    <a:ext cx="34243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олните дейст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8"/>
          <p:cNvGraphicFramePr/>
          <p:nvPr/>
        </p:nvGraphicFramePr>
        <p:xfrm>
          <a:off x="2344680" y="3414600"/>
          <a:ext cx="3683160" cy="109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4680" y="3414600"/>
                    <a:ext cx="368316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"/>
          <p:cNvGraphicFramePr/>
          <p:nvPr/>
        </p:nvGraphicFramePr>
        <p:xfrm>
          <a:off x="2514600" y="3397320"/>
          <a:ext cx="3814920" cy="114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3397320"/>
                    <a:ext cx="3814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10"/>
          <p:cNvSpPr/>
          <p:nvPr/>
        </p:nvSpPr>
        <p:spPr>
          <a:xfrm>
            <a:off x="4503600" y="3116160"/>
            <a:ext cx="2616480" cy="1733760"/>
          </a:xfrm>
          <a:prstGeom prst="rect">
            <a:avLst/>
          </a:prstGeom>
          <a:solidFill>
            <a:srgbClr val="9999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Прави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214280" y="2924280"/>
            <a:ext cx="3132360" cy="2152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356000" y="2924280"/>
            <a:ext cx="2960640" cy="21398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2249640" y="3386160"/>
          <a:ext cx="425448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9640" y="3386160"/>
                    <a:ext cx="425448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5"/>
          <p:cNvGraphicFramePr/>
          <p:nvPr/>
        </p:nvGraphicFramePr>
        <p:xfrm>
          <a:off x="1744560" y="3470400"/>
          <a:ext cx="5400720" cy="110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4560" y="3470400"/>
                    <a:ext cx="5400720" cy="11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6"/>
          <p:cNvGraphicFramePr/>
          <p:nvPr/>
        </p:nvGraphicFramePr>
        <p:xfrm>
          <a:off x="2724120" y="3425760"/>
          <a:ext cx="3457440" cy="117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24120" y="3425760"/>
                    <a:ext cx="3457440" cy="11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полните действ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8"/>
          <p:cNvGraphicFramePr/>
          <p:nvPr/>
        </p:nvGraphicFramePr>
        <p:xfrm>
          <a:off x="2765520" y="3443400"/>
          <a:ext cx="3682800" cy="1095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65520" y="3443400"/>
                    <a:ext cx="36828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9"/>
          <p:cNvGraphicFramePr/>
          <p:nvPr/>
        </p:nvGraphicFramePr>
        <p:xfrm>
          <a:off x="2633760" y="3430440"/>
          <a:ext cx="3556080" cy="1170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33760" y="3430440"/>
                    <a:ext cx="355608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10"/>
          <p:cNvSpPr/>
          <p:nvPr/>
        </p:nvSpPr>
        <p:spPr>
          <a:xfrm>
            <a:off x="4503600" y="3116160"/>
            <a:ext cx="2616480" cy="1733760"/>
          </a:xfrm>
          <a:prstGeom prst="rect">
            <a:avLst/>
          </a:prstGeom>
          <a:solidFill>
            <a:srgbClr val="9999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Прави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>
            <a:hlinkClick r:id="" action="ppaction://hlinkshowjump?jump=endshow"/>
          </p:cNvPr>
          <p:cNvSpPr/>
          <p:nvPr/>
        </p:nvSpPr>
        <p:spPr>
          <a:xfrm>
            <a:off x="4217760" y="6389640"/>
            <a:ext cx="76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Arial"/>
              </a:rPr>
              <a:t>Закры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558E-02F5-41CE-AE15-BD54A1A10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8677440" y="9810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0200" y="1506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Сложение и вычитание дробей с разными знаменател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C:\Documents and Settings\All Users\Документы\Мои рисунки\Образцы рисунков\WP6CAOETMLGCAJS66PICAFBVECJCAC3E2LVCAC3MBDYCAHKG0SRCALYZIL5CAJLOHK9CA3F9IM8CAYJZC6MCAM1SU86CA6X75BICAPMCXGWCA31NQV5CAL51XEZCAM3FFV4CA2Q1E1HCAQLHT5PCATXE11U.jpg"/>
          <p:cNvPicPr/>
          <p:nvPr/>
        </p:nvPicPr>
        <p:blipFill>
          <a:blip r:embed="rId1"/>
          <a:stretch/>
        </p:blipFill>
        <p:spPr>
          <a:xfrm>
            <a:off x="6827760" y="46656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3"/>
          <p:cNvSpPr/>
          <p:nvPr/>
        </p:nvSpPr>
        <p:spPr>
          <a:xfrm>
            <a:off x="6013440" y="844560"/>
            <a:ext cx="28544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Calibri"/>
                <a:ea typeface="Times New Roman"/>
              </a:rPr>
              <a:t>29.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Заголовок 1" descr=""/>
          <p:cNvPicPr/>
          <p:nvPr/>
        </p:nvPicPr>
        <p:blipFill>
          <a:blip r:embed="rId1"/>
          <a:stretch/>
        </p:blipFill>
        <p:spPr>
          <a:xfrm>
            <a:off x="682560" y="1554120"/>
            <a:ext cx="82170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8T13:01:16Z</dcterms:created>
  <dc:creator>Кравченко</dc:creator>
  <dc:description/>
  <dc:language>en-US</dc:language>
  <cp:lastModifiedBy>Алина Гурышкина</cp:lastModifiedBy>
  <dcterms:modified xsi:type="dcterms:W3CDTF">2023-09-28T18:07:32Z</dcterms:modified>
  <cp:revision>185</cp:revision>
  <dc:subject/>
  <dc:title>8 класс алгебра</dc:title>
</cp:coreProperties>
</file>